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F1D4-CE20-4E50-83EA-82F3FA11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E09-FBFE-4108-8DF2-1E29E41B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55E-5767-4393-ABF5-45AE9916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2D3-F4C1-4E75-9572-7DAA3E8A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12DE-999C-43BE-83AE-21E351BE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8DC4-4190-4322-8AE2-4CD86876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93DB-4F36-47F5-B4FC-B4B161CF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CDAC-819D-4B60-88F4-66515C92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2310-EDAC-4B60-8531-CB50F68F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F774-7CCE-4403-B897-2E019692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922E-AB9A-46F6-A769-96059B53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524D-9048-44CB-B367-BDAC1140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B92E-3F4C-401E-BA4E-14B3B4F2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5212-157D-4B36-8FC3-8B6D4A90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AD50-E2C8-41D1-BB72-907BDE6A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5A19-60E0-4D0B-82AC-43CFC75A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3245-48C4-499F-950B-C33FCDAD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354-7B3C-4DA8-A839-E9411FCE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EA4-5717-4127-B422-A8D90C81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FC0-8C61-457B-85AC-04A539A8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1E4-12A2-4B8F-A980-F997C7D4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5CA-B69E-4958-AD7E-C9C9BCE6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44E-0AA9-4DCB-8E99-9D20794D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B480-880E-4479-92F2-C1F0680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96F6-B699-4454-9B5E-C40E3FE02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81800" y="6172200"/>
            <a:ext cx="25099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9D8E-C953-4B0E-A89E-D280F81A4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81800" y="6172200"/>
            <a:ext cx="250992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1337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 into computers/storabl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ators (P.I.s, students, occasional bioinformat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ivel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pers, few people, £/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ise of the 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133720"/>
            <a:ext cx="7467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 by keyword/gene/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ing/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curation (SVM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194616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600200"/>
            <a:ext cx="3886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's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 Light"/>
              </a:rPr>
              <a:t>pu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way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1676520"/>
            <a:ext cx="3886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673280" cy="1752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4400" y="1752480"/>
            <a:ext cx="7162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/community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ty Assessment of Community Annotation with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23:02:47Z</dcterms:created>
  <dc:creator>Daniel Renfro</dc:creator>
  <dc:description/>
  <dc:language>en-US</dc:language>
  <cp:lastModifiedBy>GMOD / NESCent</cp:lastModifiedBy>
  <cp:lastPrinted>2010-09-24T17:48:19Z</cp:lastPrinted>
  <dcterms:modified xsi:type="dcterms:W3CDTF">2010-09-24T17:48:34Z</dcterms:modified>
  <cp:revision>10</cp:revision>
  <dc:subject/>
  <dc:title>Publications &amp; GMOD</dc:title>
</cp:coreProperties>
</file>